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4E40-13D7-4644-A120-D617FE4D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7894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2320" y="3950280"/>
            <a:ext cx="7894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8C52-4349-4E8A-A8BF-92CA0B4C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764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2320" y="395028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7640" y="395028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F2DF-43A9-4152-A73E-E7CED8F1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1720" y="133992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1120" y="133992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2320" y="395028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1720" y="395028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1120" y="395028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1C09-9BDF-41D6-8FD0-CC9E8351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6A5D6-E05F-42B7-A329-ACB3B94D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22320" y="1339920"/>
            <a:ext cx="789480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Microsoft Ya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4F86C-C1F4-4692-8000-49F1CD44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7894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CCB47-4592-4BF8-9247-90658B78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3852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67640" y="1339920"/>
            <a:ext cx="3852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0683B-BF3F-4625-A06F-01CD2181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34073-261C-40D1-8EA9-214F5530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22320" y="104400"/>
            <a:ext cx="789480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Microsoft Ya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02575-C3BA-43B8-BB84-28810856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67640" y="1339920"/>
            <a:ext cx="3852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22320" y="395028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6AB4A-BE9F-4271-AF7C-E969C2CB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2320" y="1339920"/>
            <a:ext cx="789480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Microsoft Ya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181B-F212-4085-89E5-3A0901A7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3852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6764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67640" y="395028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88FEA-E774-4878-A5C4-D5C88E6B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764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22320" y="3950280"/>
            <a:ext cx="7894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C47D4-6115-4B9A-A406-8046DAD7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7894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22320" y="3950280"/>
            <a:ext cx="7894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75F89-851C-4188-A116-A353CCAA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6764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22320" y="395028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67640" y="395028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FC61C-49C9-4DA5-91F8-5025916B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91720" y="133992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61120" y="133992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22320" y="395028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91720" y="395028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61120" y="395028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05884-2098-4CD0-AD82-33527F17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0EDC2-9AE3-4253-B78C-3A898BC5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22320" y="1339920"/>
            <a:ext cx="789480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Microsoft Ya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503CD-78F0-49D6-BE66-2B4DF9EB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7894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46A664-F0B3-4E27-990E-AE215167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3852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67640" y="1339920"/>
            <a:ext cx="3852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E40436-9CFC-451D-864E-0F77F739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5CDEF-9315-4B3A-86C5-E3320AE3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7894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BE9C-B7EF-4884-BF07-AA212825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22320" y="104400"/>
            <a:ext cx="789480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Microsoft Ya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453AA4-5E75-42D2-909E-3914E35D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67640" y="1339920"/>
            <a:ext cx="3852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22320" y="395028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C08BF2-1779-42F1-B6AB-7629A462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3852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6764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67640" y="395028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44B7A-8C6B-43DB-BEF3-7BA8A76A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6764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22320" y="3950280"/>
            <a:ext cx="7894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81AFCC-CB28-4935-8991-49C77C7E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7894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22320" y="3950280"/>
            <a:ext cx="7894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5B134A-00EC-4C5B-8428-DE6FBEBF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6764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22320" y="395028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67640" y="395028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A1D9A-FE6D-4F1A-9292-C076A641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91720" y="133992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61120" y="133992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22320" y="395028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91720" y="395028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61120" y="3950280"/>
            <a:ext cx="2541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F5E585-1220-4F53-BB8A-3DCA1B75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3852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7640" y="1339920"/>
            <a:ext cx="3852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5AD2-D5F8-4A45-9A9F-36BAC047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E270-D5E0-4003-88FD-BB6490BD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22320" y="104400"/>
            <a:ext cx="789480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Microsoft Ya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0439-5CAA-4961-946A-2436247B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7640" y="1339920"/>
            <a:ext cx="3852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2320" y="395028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890E-0B7E-492C-B120-BEC515E0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3852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764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7640" y="395028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B995-123E-4FF4-8B49-A2645646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7640" y="1339920"/>
            <a:ext cx="38523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2320" y="3950280"/>
            <a:ext cx="7894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6B59-9619-4CE6-99ED-7FF388FB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E153-B659-4630-8178-BBF3A92ACC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3200" spc="-1" strike="noStrike">
                <a:solidFill>
                  <a:srgbClr val="d71f1b"/>
                </a:solidFill>
                <a:latin typeface="Microsoft YaHei"/>
              </a:rPr>
              <a:t>Click to edit the title text format</a:t>
            </a: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d9d9d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404A-F33D-483B-915C-7145225392F4}" type="slidenum">
              <a:rPr b="0" lang="zh-CN" sz="10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22320" y="1339920"/>
            <a:ext cx="7894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ea5b58"/>
              </a:buClr>
              <a:buSzPct val="80000"/>
              <a:buFont typeface="Wingdings 2" charset="2"/>
              <a:buChar char="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ea5b58"/>
                </a:solidFill>
                <a:latin typeface="Microsoft YaHei"/>
              </a:rPr>
              <a:t>Click to edit the outline text format</a:t>
            </a: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e39ebf"/>
              </a:buClr>
              <a:buFont typeface="幼圆"/>
              <a:buChar char=" 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ea5b58"/>
                </a:solidFill>
                <a:latin typeface="Microsoft YaHei"/>
              </a:rPr>
              <a:t>Second Outline Level</a:t>
            </a: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lvl="2" marL="642960" indent="-128520" algn="just">
              <a:lnSpc>
                <a:spcPct val="110000"/>
              </a:lnSpc>
              <a:spcBef>
                <a:spcPts val="1012"/>
              </a:spcBef>
              <a:buClr>
                <a:srgbClr val="5f5f5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ea5b58"/>
                </a:solidFill>
                <a:latin typeface="Microsoft YaHei"/>
              </a:rPr>
              <a:t>Third Outline Level</a:t>
            </a: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lvl="3" marL="900000" indent="-128520" algn="just">
              <a:lnSpc>
                <a:spcPct val="110000"/>
              </a:lnSpc>
              <a:spcBef>
                <a:spcPts val="1012"/>
              </a:spcBef>
              <a:buClr>
                <a:srgbClr val="5f5f5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ea5b58"/>
                </a:solidFill>
                <a:latin typeface="Microsoft YaHei"/>
              </a:rPr>
              <a:t>Fourth Outline Level</a:t>
            </a: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lvl="4" marL="1157400" indent="-128520" algn="just">
              <a:lnSpc>
                <a:spcPct val="110000"/>
              </a:lnSpc>
              <a:spcBef>
                <a:spcPts val="1012"/>
              </a:spcBef>
              <a:buClr>
                <a:srgbClr val="5f5f5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ea5b58"/>
                </a:solidFill>
                <a:latin typeface="Microsoft YaHei"/>
              </a:rPr>
              <a:t>Fifth Outline Level</a:t>
            </a: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lvl="5" marL="1157400" indent="-128520" algn="just">
              <a:lnSpc>
                <a:spcPct val="110000"/>
              </a:lnSpc>
              <a:spcBef>
                <a:spcPts val="1012"/>
              </a:spcBef>
              <a:buClr>
                <a:srgbClr val="5f5f5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ea5b58"/>
                </a:solidFill>
                <a:latin typeface="Microsoft YaHei"/>
              </a:rPr>
              <a:t>Sixth Outline Level</a:t>
            </a: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lvl="6" marL="1157400" indent="-128520" algn="just">
              <a:lnSpc>
                <a:spcPct val="110000"/>
              </a:lnSpc>
              <a:spcBef>
                <a:spcPts val="1012"/>
              </a:spcBef>
              <a:buClr>
                <a:srgbClr val="5f5f5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ea5b58"/>
                </a:solidFill>
                <a:latin typeface="Microsoft YaHei"/>
              </a:rPr>
              <a:t>Seventh Outline Level</a:t>
            </a: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45" name="矩形 14"/>
          <p:cNvSpPr/>
          <p:nvPr/>
        </p:nvSpPr>
        <p:spPr>
          <a:xfrm>
            <a:off x="0" y="-28440"/>
            <a:ext cx="735120" cy="6886440"/>
          </a:xfrm>
          <a:prstGeom prst="rect">
            <a:avLst/>
          </a:prstGeom>
          <a:solidFill>
            <a:srgbClr val="e745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5"/>
          <p:cNvSpPr/>
          <p:nvPr/>
        </p:nvSpPr>
        <p:spPr>
          <a:xfrm>
            <a:off x="0" y="866880"/>
            <a:ext cx="9144000" cy="384120"/>
          </a:xfrm>
          <a:prstGeom prst="rect">
            <a:avLst/>
          </a:prstGeom>
          <a:solidFill>
            <a:srgbClr val="e745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6"/>
          <p:cNvSpPr/>
          <p:nvPr/>
        </p:nvSpPr>
        <p:spPr>
          <a:xfrm>
            <a:off x="0" y="866880"/>
            <a:ext cx="73512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7711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9"/>
          <p:cNvSpPr/>
          <p:nvPr/>
        </p:nvSpPr>
        <p:spPr>
          <a:xfrm>
            <a:off x="1333440" y="0"/>
            <a:ext cx="7810560" cy="6858000"/>
          </a:xfrm>
          <a:prstGeom prst="rect">
            <a:avLst/>
          </a:prstGeom>
          <a:solidFill>
            <a:srgbClr val="e745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0" y="1407960"/>
            <a:ext cx="9144000" cy="46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1"/>
          <p:cNvSpPr/>
          <p:nvPr/>
        </p:nvSpPr>
        <p:spPr>
          <a:xfrm>
            <a:off x="0" y="1407960"/>
            <a:ext cx="1333440" cy="460440"/>
          </a:xfrm>
          <a:prstGeom prst="rect">
            <a:avLst/>
          </a:prstGeom>
          <a:solidFill>
            <a:srgbClr val="e745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0480" y="2387520"/>
            <a:ext cx="6648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crosoft YaHe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Microsoft YaHe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d9d9d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F28B-9AA0-4D70-820C-8D868830CC53}" type="slidenum">
              <a:rPr b="0" lang="zh-CN" sz="10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YaHe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Microsoft YaHei"/>
            </a:endParaRPr>
          </a:p>
          <a:p>
            <a:pPr lvl="1" indent="0" algn="ctr">
              <a:lnSpc>
                <a:spcPct val="150000"/>
              </a:lnSpc>
              <a:spcAft>
                <a:spcPts val="337"/>
              </a:spcAft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5f5f5f"/>
              </a:solidFill>
              <a:latin typeface="幼圆"/>
            </a:endParaRPr>
          </a:p>
          <a:p>
            <a:pPr lvl="2" marL="514440" algn="ctr">
              <a:lnSpc>
                <a:spcPct val="90000"/>
              </a:lnSpc>
              <a:spcBef>
                <a:spcPts val="275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5f5f5f"/>
              </a:solidFill>
              <a:latin typeface="Calibri"/>
            </a:endParaRPr>
          </a:p>
          <a:p>
            <a:pPr lvl="3" marL="771480" algn="ctr">
              <a:lnSpc>
                <a:spcPct val="90000"/>
              </a:lnSpc>
              <a:spcBef>
                <a:spcPts val="275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alibri"/>
              </a:rPr>
              <a:t>Fourth Outline Level</a:t>
            </a:r>
            <a:endParaRPr b="0" lang="en-US" sz="1000" spc="-1" strike="noStrike">
              <a:solidFill>
                <a:srgbClr val="5f5f5f"/>
              </a:solidFill>
              <a:latin typeface="Calibri"/>
            </a:endParaRPr>
          </a:p>
          <a:p>
            <a:pPr lvl="4" marL="1028880" algn="ctr">
              <a:lnSpc>
                <a:spcPct val="90000"/>
              </a:lnSpc>
              <a:spcBef>
                <a:spcPts val="275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alibri"/>
              </a:rPr>
              <a:t>Fifth Outline Level</a:t>
            </a:r>
            <a:endParaRPr b="0" lang="en-US" sz="1000" spc="-1" strike="noStrike">
              <a:solidFill>
                <a:srgbClr val="5f5f5f"/>
              </a:solidFill>
              <a:latin typeface="Calibri"/>
            </a:endParaRPr>
          </a:p>
          <a:p>
            <a:pPr lvl="5" marL="1028880">
              <a:spcBef>
                <a:spcPts val="2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alibri"/>
              </a:rPr>
              <a:t>Sixth Outline Level</a:t>
            </a:r>
            <a:endParaRPr b="0" lang="en-US" sz="1000" spc="-1" strike="noStrike">
              <a:solidFill>
                <a:srgbClr val="5f5f5f"/>
              </a:solidFill>
              <a:latin typeface="Calibri"/>
            </a:endParaRPr>
          </a:p>
          <a:p>
            <a:pPr lvl="6" marL="1028880">
              <a:spcBef>
                <a:spcPts val="2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alibri"/>
              </a:rPr>
              <a:t>Seventh Outline Level</a:t>
            </a:r>
            <a:endParaRPr b="0" lang="en-US" sz="10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90480" y="2387520"/>
            <a:ext cx="664812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br>
              <a:rPr sz="5400"/>
            </a:br>
            <a:endParaRPr b="1" lang="en-US" sz="5400" spc="-1" strike="noStrike">
              <a:solidFill>
                <a:srgbClr val="ffffff"/>
              </a:solidFill>
              <a:latin typeface="Microsoft YaHe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900480" y="4684680"/>
            <a:ext cx="13590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Microsoft YaHei"/>
            </a:endParaRPr>
          </a:p>
        </p:txBody>
      </p:sp>
      <p:sp>
        <p:nvSpPr>
          <p:cNvPr id="131" name=""/>
          <p:cNvSpPr/>
          <p:nvPr/>
        </p:nvSpPr>
        <p:spPr>
          <a:xfrm>
            <a:off x="2936880" y="977760"/>
            <a:ext cx="3414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1880" y="2438280"/>
            <a:ext cx="6359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0" spc="-1" strike="noStrike">
                <a:solidFill>
                  <a:srgbClr val="5f5f5f"/>
                </a:solidFill>
                <a:latin typeface="Arial"/>
              </a:rPr>
              <a:t>벤처창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0" spc="-1" strike="noStrike">
                <a:solidFill>
                  <a:srgbClr val="5f5f5f"/>
                </a:solidFill>
                <a:latin typeface="Arial"/>
              </a:rPr>
              <a:t>                                                                        </a:t>
            </a:r>
            <a:r>
              <a:rPr b="1" lang="ko-KR" sz="1800" spc="-1" strike="noStrike">
                <a:solidFill>
                  <a:srgbClr val="5f5f5f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f5f5f"/>
                </a:solidFill>
                <a:latin typeface="Arial"/>
              </a:rPr>
              <a:t>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ko-KR" sz="3200" spc="-1" strike="noStrike">
                <a:solidFill>
                  <a:srgbClr val="d71f1b"/>
                </a:solidFill>
                <a:latin typeface="Microsoft YaHei"/>
              </a:rPr>
              <a:t>비즈니스 모델 도식화</a:t>
            </a: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134" name=""/>
          <p:cNvSpPr/>
          <p:nvPr/>
        </p:nvSpPr>
        <p:spPr>
          <a:xfrm>
            <a:off x="922320" y="3589200"/>
            <a:ext cx="1181160" cy="1254240"/>
          </a:xfrm>
          <a:prstGeom prst="rect">
            <a:avLst/>
          </a:prstGeom>
          <a:solidFill>
            <a:srgbClr val="ea5b58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Arial"/>
              </a:rPr>
              <a:t>구성 제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Arial"/>
              </a:rPr>
              <a:t>공급 업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87880" y="3222720"/>
            <a:ext cx="1444680" cy="1620720"/>
          </a:xfrm>
          <a:prstGeom prst="ellipse">
            <a:avLst/>
          </a:prstGeom>
          <a:solidFill>
            <a:srgbClr val="ffa6a6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f5f5f"/>
                </a:solidFill>
                <a:latin typeface="Arial"/>
              </a:rPr>
              <a:t>NEW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618320" y="3519360"/>
            <a:ext cx="1198800" cy="1252800"/>
          </a:xfrm>
          <a:prstGeom prst="rect">
            <a:avLst/>
          </a:prstGeom>
          <a:solidFill>
            <a:srgbClr val="ea5b58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Arial"/>
              </a:rPr>
              <a:t>소비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/>
          <p:nvPr/>
        </p:nvCxnSpPr>
        <p:spPr>
          <a:xfrm>
            <a:off x="2409480" y="3779640"/>
            <a:ext cx="1491480" cy="1080"/>
          </a:xfrm>
          <a:prstGeom prst="straightConnector1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2441520" y="3336840"/>
            <a:ext cx="14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Arial"/>
              </a:rPr>
              <a:t>음식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/>
          <p:nvPr/>
        </p:nvCxnSpPr>
        <p:spPr>
          <a:xfrm flipH="1">
            <a:off x="2440800" y="4406400"/>
            <a:ext cx="1459800" cy="1080"/>
          </a:xfrm>
          <a:prstGeom prst="straightConnector1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923760" y="1459080"/>
            <a:ext cx="579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Arial"/>
              </a:rPr>
              <a:t>BM:</a:t>
            </a:r>
            <a:r>
              <a:rPr b="0" lang="ko-KR" sz="1800" spc="-1" strike="noStrike">
                <a:solidFill>
                  <a:srgbClr val="5f5f5f"/>
                </a:solidFill>
                <a:latin typeface="Arial"/>
              </a:rPr>
              <a:t>플랫폼형</a:t>
            </a:r>
            <a:r>
              <a:rPr b="0" lang="ko-KR" sz="1800" spc="-1" strike="noStrike">
                <a:solidFill>
                  <a:srgbClr val="5f5f5f"/>
                </a:solidFill>
                <a:latin typeface="Arial"/>
              </a:rPr>
              <a:t>/</a:t>
            </a:r>
            <a:r>
              <a:rPr b="0" lang="ko-KR" sz="1800" spc="-1" strike="noStrike">
                <a:solidFill>
                  <a:srgbClr val="5f5f5f"/>
                </a:solidFill>
                <a:latin typeface="Arial"/>
              </a:rPr>
              <a:t>수익공식</a:t>
            </a:r>
            <a:r>
              <a:rPr b="0" lang="ko-KR" sz="1800" spc="-1" strike="noStrike">
                <a:solidFill>
                  <a:srgbClr val="5f5f5f"/>
                </a:solidFill>
                <a:latin typeface="Arial"/>
              </a:rPr>
              <a:t>/</a:t>
            </a:r>
            <a:r>
              <a:rPr b="0" lang="ko-KR" sz="1800" spc="-1" strike="noStrike">
                <a:solidFill>
                  <a:srgbClr val="5f5f5f"/>
                </a:solidFill>
                <a:latin typeface="Arial"/>
              </a:rPr>
              <a:t>회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Arial"/>
              </a:rPr>
              <a:t>개인 맞춤형 큐레이션 플랫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箭头 74"/>
          <p:cNvSpPr/>
          <p:nvPr/>
        </p:nvSpPr>
        <p:spPr>
          <a:xfrm>
            <a:off x="5842080" y="3780000"/>
            <a:ext cx="137160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箭头 75"/>
          <p:cNvSpPr/>
          <p:nvPr/>
        </p:nvSpPr>
        <p:spPr>
          <a:xfrm flipH="1">
            <a:off x="5842080" y="4406760"/>
            <a:ext cx="137160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02240" y="3336840"/>
            <a:ext cx="21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Arial"/>
              </a:rPr>
              <a:t>맞춤화 제품 배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06600" y="4522680"/>
            <a:ext cx="29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Arial"/>
              </a:rPr>
              <a:t>제품 대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Arial"/>
              </a:rPr>
              <a:t>고객 피드백 분석 데이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8000" y="4522680"/>
            <a:ext cx="12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5f5f5f"/>
                </a:solidFill>
                <a:latin typeface="Arial"/>
              </a:rPr>
              <a:t>구독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200" spc="-1" strike="noStrike">
                <a:solidFill>
                  <a:srgbClr val="d71f1b"/>
                </a:solidFill>
                <a:latin typeface="Microsoft YaHei"/>
              </a:rPr>
              <a:t>핵심</a:t>
            </a:r>
            <a:r>
              <a:rPr b="1" lang="ko-KR" sz="3200" spc="-1" strike="noStrike">
                <a:solidFill>
                  <a:srgbClr val="d71f1b"/>
                </a:solidFill>
                <a:latin typeface="Microsoft YaHei"/>
              </a:rPr>
              <a:t> </a:t>
            </a:r>
            <a:r>
              <a:rPr b="1" lang="zh-CN" sz="3200" spc="-1" strike="noStrike">
                <a:solidFill>
                  <a:srgbClr val="d71f1b"/>
                </a:solidFill>
                <a:latin typeface="Microsoft YaHei"/>
              </a:rPr>
              <a:t>제공</a:t>
            </a:r>
            <a:r>
              <a:rPr b="1" lang="ko-KR" sz="3200" spc="-1" strike="noStrike">
                <a:solidFill>
                  <a:srgbClr val="d71f1b"/>
                </a:solidFill>
                <a:latin typeface="Microsoft YaHei"/>
              </a:rPr>
              <a:t> </a:t>
            </a:r>
            <a:r>
              <a:rPr b="1" lang="zh-CN" sz="3200" spc="-1" strike="noStrike">
                <a:solidFill>
                  <a:srgbClr val="d71f1b"/>
                </a:solidFill>
                <a:latin typeface="Microsoft YaHei"/>
              </a:rPr>
              <a:t>가치</a:t>
            </a: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7894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marL="36180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ea5b58"/>
              </a:buClr>
              <a:buSzPct val="80000"/>
              <a:buFont typeface="Wingdings 2" charset="2"/>
              <a:buChar char="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2400" spc="-1" strike="noStrike">
                <a:solidFill>
                  <a:srgbClr val="ea5b58"/>
                </a:solidFill>
                <a:latin typeface="Microsoft YaHei"/>
              </a:rPr>
              <a:t>저관여 제품이나 간단한 도시락 혹은 다이어트 도시락에서 육아용품 정기 구독하는 서브스크립션 서비스</a:t>
            </a: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ea5b58"/>
              </a:buClr>
              <a:buSzPct val="80000"/>
              <a:buFont typeface="Wingdings 2" charset="2"/>
              <a:buChar char="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2400" spc="-1" strike="noStrike">
                <a:solidFill>
                  <a:srgbClr val="ea5b58"/>
                </a:solidFill>
                <a:latin typeface="Microsoft YaHei"/>
              </a:rPr>
              <a:t>구독 하는 동안은 일정 기간 동안 확보 된 고객이므로 저렴한 가격에 제공</a:t>
            </a: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ea5b58"/>
              </a:buClr>
              <a:buSzPct val="80000"/>
              <a:buFont typeface="Wingdings 2" charset="2"/>
              <a:buChar char="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2400" spc="-1" strike="noStrike">
                <a:solidFill>
                  <a:srgbClr val="ea5b58"/>
                </a:solidFill>
                <a:latin typeface="Microsoft YaHei"/>
              </a:rPr>
              <a:t>당일 주문은 당일 출고를 원칙으로 한다</a:t>
            </a:r>
            <a:r>
              <a:rPr b="0" lang="ko-KR" sz="2400" spc="-1" strike="noStrike">
                <a:solidFill>
                  <a:srgbClr val="ea5b58"/>
                </a:solidFill>
                <a:latin typeface="Microsoft YaHei"/>
              </a:rPr>
              <a:t>.</a:t>
            </a: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marL="36180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200" spc="-1" strike="noStrike">
                <a:solidFill>
                  <a:srgbClr val="d71f1b"/>
                </a:solidFill>
                <a:latin typeface="Microsoft YaHei"/>
              </a:rPr>
              <a:t>수익공식</a:t>
            </a: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7894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ea5b58"/>
              </a:buClr>
              <a:buSzPct val="80000"/>
              <a:buFont typeface="Wingdings 2" charset="2"/>
              <a:buChar char="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2400" spc="-1" strike="noStrike">
                <a:solidFill>
                  <a:srgbClr val="ea5b58"/>
                </a:solidFill>
                <a:latin typeface="Microsoft YaHei"/>
              </a:rPr>
              <a:t>고객에게 일정의 구독료를 받아 운영</a:t>
            </a: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ea5b58"/>
              </a:buClr>
              <a:buSzPct val="80000"/>
              <a:buFont typeface="Wingdings 2" charset="2"/>
              <a:buChar char="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2400" spc="-1" strike="noStrike">
                <a:solidFill>
                  <a:srgbClr val="ea5b58"/>
                </a:solidFill>
                <a:latin typeface="Microsoft YaHei"/>
              </a:rPr>
              <a:t>고객에게 받은 구독료 중 일부를 업체에게 제공</a:t>
            </a: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marL="36180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marL="36180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ea5b58"/>
              </a:buClr>
              <a:buSzPct val="80000"/>
              <a:buFont typeface="Wingdings 2" charset="2"/>
              <a:buChar char="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2400" spc="-1" strike="noStrike">
                <a:solidFill>
                  <a:srgbClr val="ea5b58"/>
                </a:solidFill>
                <a:latin typeface="Microsoft YaHei"/>
              </a:rPr>
              <a:t>구</a:t>
            </a:r>
            <a:r>
              <a:rPr b="0" lang="zh-CN" sz="2400" spc="-1" strike="noStrike">
                <a:solidFill>
                  <a:srgbClr val="ea5b58"/>
                </a:solidFill>
                <a:latin typeface="Microsoft YaHei"/>
              </a:rPr>
              <a:t>독이라는 점을 이용하여 한 고객에게 일정한 시간동안 간격을 두고 물건을 배송시켜 줌으로 인해 고객을 확보 할 수</a:t>
            </a:r>
            <a:r>
              <a:rPr b="0" lang="ko-KR" sz="2400" spc="-1" strike="noStrike">
                <a:solidFill>
                  <a:srgbClr val="ea5b58"/>
                </a:solidFill>
                <a:latin typeface="Microsoft YaHei"/>
              </a:rPr>
              <a:t> 있음</a:t>
            </a: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ea5b58"/>
              </a:buClr>
              <a:buSzPct val="80000"/>
              <a:buFont typeface="Wingdings 2" charset="2"/>
              <a:buChar char="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2400" spc="-1" strike="noStrike">
                <a:solidFill>
                  <a:srgbClr val="ea5b58"/>
                </a:solidFill>
                <a:latin typeface="Microsoft YaHei"/>
              </a:rPr>
              <a:t>육아용품이나 저관여 제품같은 경우 주 혹은 달 마다 제품이 모두 사용해 갈 때쯤 물건을 받아 볼 수 있다</a:t>
            </a:r>
            <a:r>
              <a:rPr b="0" lang="ko-KR" sz="2400" spc="-1" strike="noStrike">
                <a:solidFill>
                  <a:srgbClr val="ea5b58"/>
                </a:solidFill>
                <a:latin typeface="Microsoft YaHei"/>
              </a:rPr>
              <a:t>.</a:t>
            </a: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marL="36180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50" name=""/>
          <p:cNvSpPr/>
          <p:nvPr/>
        </p:nvSpPr>
        <p:spPr>
          <a:xfrm>
            <a:off x="922320" y="3355920"/>
            <a:ext cx="760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5b58"/>
                </a:solidFill>
                <a:latin typeface="Arial"/>
              </a:rPr>
              <a:t>핵심자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22320" y="104400"/>
            <a:ext cx="7894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ko-KR" sz="3200" spc="-1" strike="noStrike">
                <a:solidFill>
                  <a:srgbClr val="d71f1b"/>
                </a:solidFill>
                <a:latin typeface="Microsoft YaHei"/>
              </a:rPr>
              <a:t>핵심 프로세스</a:t>
            </a:r>
            <a:endParaRPr b="1" lang="en-US" sz="3200" spc="-1" strike="noStrike">
              <a:solidFill>
                <a:srgbClr val="d71f1b"/>
              </a:solidFill>
              <a:latin typeface="Microsoft YaHe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22320" y="1339920"/>
            <a:ext cx="7894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ea5b58"/>
              </a:buClr>
              <a:buSzPct val="80000"/>
              <a:buFont typeface="Wingdings 2" charset="2"/>
              <a:buChar char="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2400" spc="-1" strike="noStrike">
                <a:solidFill>
                  <a:srgbClr val="ea5b58"/>
                </a:solidFill>
                <a:latin typeface="Microsoft YaHei"/>
              </a:rPr>
              <a:t>음식인 경우가 대 부분이므로 당일 주문 당일 출고 원칙을 삼아야 한다</a:t>
            </a:r>
            <a:r>
              <a:rPr b="0" lang="ko-KR" sz="2400" spc="-1" strike="noStrike">
                <a:solidFill>
                  <a:srgbClr val="ea5b58"/>
                </a:solidFill>
                <a:latin typeface="Microsoft YaHei"/>
              </a:rPr>
              <a:t>.</a:t>
            </a: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marL="36180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marL="361800"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  <a:p>
            <a:pPr marL="361800" indent="-361800" algn="just">
              <a:lnSpc>
                <a:spcPct val="110000"/>
              </a:lnSpc>
              <a:spcBef>
                <a:spcPts val="1012"/>
              </a:spcBef>
              <a:buClr>
                <a:srgbClr val="ea5b58"/>
              </a:buClr>
              <a:buSzPct val="80000"/>
              <a:buFont typeface="Wingdings 2" charset="2"/>
              <a:buChar char="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2400" spc="-1" strike="noStrike">
                <a:solidFill>
                  <a:srgbClr val="ea5b58"/>
                </a:solidFill>
                <a:latin typeface="Microsoft YaHei"/>
              </a:rPr>
              <a:t>배민프레시</a:t>
            </a:r>
            <a:r>
              <a:rPr b="0" lang="ko-KR" sz="2400" spc="-1" strike="noStrike">
                <a:solidFill>
                  <a:srgbClr val="ea5b58"/>
                </a:solidFill>
                <a:latin typeface="Microsoft YaHei"/>
              </a:rPr>
              <a:t>, </a:t>
            </a:r>
            <a:r>
              <a:rPr b="0" lang="ko-KR" sz="2400" spc="-1" strike="noStrike">
                <a:solidFill>
                  <a:srgbClr val="ea5b58"/>
                </a:solidFill>
                <a:latin typeface="Microsoft YaHei"/>
              </a:rPr>
              <a:t>쿠팡의 정기구독 서비스</a:t>
            </a:r>
            <a:endParaRPr b="0" lang="en-US" sz="2400" spc="-1" strike="noStrike">
              <a:solidFill>
                <a:srgbClr val="ea5b58"/>
              </a:solidFill>
              <a:latin typeface="Microsoft YaHei"/>
            </a:endParaRPr>
          </a:p>
        </p:txBody>
      </p:sp>
      <p:sp>
        <p:nvSpPr>
          <p:cNvPr id="153" name=""/>
          <p:cNvSpPr/>
          <p:nvPr/>
        </p:nvSpPr>
        <p:spPr>
          <a:xfrm>
            <a:off x="996840" y="2771640"/>
            <a:ext cx="410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5b58"/>
                </a:solidFill>
                <a:latin typeface="Arial"/>
              </a:rPr>
              <a:t>유사 비즈니스 사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2T09:28:30Z</dcterms:created>
  <dc:creator>Hyunah</dc:creator>
  <dc:description/>
  <dc:language>en-US</dc:language>
  <cp:lastModifiedBy/>
  <dcterms:modified xsi:type="dcterms:W3CDTF">2016-03-23T14:27:0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1</vt:lpwstr>
  </property>
</Properties>
</file>